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F03-5584-474E-A9D5-12BDC0F7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0DC-B85D-46D3-B96E-DAD2426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36F-FAC5-423C-A12F-7B22235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0B8-77F4-44E5-A219-D9059A04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484-0765-4537-BA50-0D280AE3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96C-85A7-4744-B198-73E68DCC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E8A-39B7-4773-86C2-417A3AB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CFB8-7E62-4040-B5E9-E71F245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866D-9AE1-4D3F-8EA6-D8232AE0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662-F11E-41EB-B0CB-A7F69E27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2FB7-3EC9-4993-BADF-BF6E0D9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5EF-A714-4029-B66F-0874329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3FF8-F59D-4018-AC98-E8A2BABB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9F6-3CE8-4823-AAD2-5CDC73D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6F8B-CCB7-48CA-AB82-AEE3C1D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3861-9B0E-43AB-9E27-5BE7A255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A27A-719D-42CC-8076-A92267BF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4F3-E8A0-4DCE-8E7D-D2A9AC41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F88-F02A-409C-B181-022B97EF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9E4-5653-4BBC-8164-A13C099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154-93B3-4226-BA99-65EF883F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68D-82A9-40B2-9112-9B0B670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097-8CD4-4751-AD9E-7BE5699E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971-B6AC-461D-8A1C-9B59258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9FC-2FC4-4C17-A991-5840918F85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9C21-86EF-44CB-9F43-13A077976C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e llamo _____________          Clase 8IM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a fecha es el 2 de octubre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5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ómo  continuamos el repaso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sponde con el P.O.D correc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ienes una mochila nuev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aste los cuaderno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ste el examen de matemática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Jugaste futbol en educación físic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Buscaste información en el Interne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Enviaste un correo electrónico anoch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79200"/>
            <a:ext cx="7313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Mas practica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swer the question using the D.O.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Ex.  ¿Vas a pedir la ensalad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900" spc="-1" strike="noStrike">
                <a:solidFill>
                  <a:srgbClr val="000000"/>
                </a:solidFill>
                <a:latin typeface="Verdana"/>
              </a:rPr>
              <a:t>_________________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cinaste tú la sop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ron Uds. un examen de ing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endiste tú la lección de ho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as los periódicos latino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523880"/>
            <a:ext cx="2286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514600"/>
            <a:ext cx="7621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23520" y="25146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6012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5960" y="2057400"/>
            <a:ext cx="26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008000"/>
                </a:solidFill>
                <a:latin typeface="Verdana"/>
              </a:rPr>
              <a:t> voy a p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1828800"/>
            <a:ext cx="13716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92468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Verdana"/>
              </a:rPr>
              <a:t>Tarea # 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pia y responde con el Pronombre de Objeto Direc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Llevas los esquís a Asp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Invitaron a los profesores al festiv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Preparaste una comida especi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ron uds. bastantes gaseosa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en uds. muchas golosinas</a:t>
            </a:r>
            <a:r>
              <a:rPr b="0" i="1" lang="es-ES_tradnl" sz="1600" spc="-1" strike="noStrike">
                <a:solidFill>
                  <a:srgbClr val="000000"/>
                </a:solidFill>
                <a:latin typeface="Verdana"/>
              </a:rPr>
              <a:t> (junkfood)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durante los eventos especiales de la escuel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9:44:49Z</dcterms:created>
  <dc:creator>Helen Zumaeta</dc:creator>
  <dc:description/>
  <dc:language>en-US</dc:language>
  <cp:lastModifiedBy>Helen Zumaeta</cp:lastModifiedBy>
  <dcterms:modified xsi:type="dcterms:W3CDTF">2012-10-02T16:01:55Z</dcterms:modified>
  <cp:revision>10</cp:revision>
  <dc:subject/>
  <dc:title>Slide 1</dc:title>
</cp:coreProperties>
</file>